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F1F0-34DF-4C3F-9AE2-A837D9245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6275-A4DE-4EB4-A663-644E109F0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6F82-1368-40B1-B783-ACC6C040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D72A-BF9C-4312-AA71-96578F78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6FAF-3E5B-4CAB-957E-DB668CD1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FD4D-FBA1-47BC-B5E4-5246EC79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61E4-6D8E-447A-84DE-A59F9767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A536-AD8D-46B0-9968-0AF56663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18B9-D761-44AF-B41E-C3C78D8C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9AA5-DF29-46DD-B5ED-BA554634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C8DC-57E7-4161-B71D-822957F9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8B4A-9E20-4D9F-ADF8-A1FD7BFC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1C9F-BD83-4FF3-8AF4-5F3940EB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B40-901B-4721-BDD3-03377ABE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39A7-5B1F-412A-B6CC-CBF7EF6B8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3" descr=""/>
          <p:cNvPicPr/>
          <p:nvPr/>
        </p:nvPicPr>
        <p:blipFill>
          <a:blip r:embed="rId1"/>
          <a:stretch/>
        </p:blipFill>
        <p:spPr>
          <a:xfrm>
            <a:off x="291960" y="109440"/>
            <a:ext cx="8560080" cy="1706760"/>
          </a:xfrm>
          <a:prstGeom prst="rect">
            <a:avLst/>
          </a:prstGeom>
          <a:ln w="0">
            <a:noFill/>
          </a:ln>
        </p:spPr>
      </p:pic>
      <p:grpSp>
        <p:nvGrpSpPr>
          <p:cNvPr id="49" name="Content Placeholder 5"/>
          <p:cNvGrpSpPr/>
          <p:nvPr/>
        </p:nvGrpSpPr>
        <p:grpSpPr>
          <a:xfrm>
            <a:off x="304920" y="1450800"/>
            <a:ext cx="4346280" cy="4827600"/>
            <a:chOff x="304920" y="1450800"/>
            <a:chExt cx="4346280" cy="4827600"/>
          </a:xfrm>
        </p:grpSpPr>
        <p:pic>
          <p:nvPicPr>
            <p:cNvPr id="50" name="Content Placeholder 5" descr=""/>
            <p:cNvPicPr/>
            <p:nvPr/>
          </p:nvPicPr>
          <p:blipFill>
            <a:blip r:embed="rId2"/>
            <a:stretch/>
          </p:blipFill>
          <p:spPr>
            <a:xfrm>
              <a:off x="304920" y="1450800"/>
              <a:ext cx="4346280" cy="482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5720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3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alibri"/>
                </a:rPr>
                <a:t>EXAMPLES OF EASY WAYS TO VIOLATE THE LAW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Somebody you don’t even know e-mails you a copy of a copyrighted song and then you turn around and e-mail copies to all of your friends.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You make an MP3 copy of a song because the CD you bought expressly permits you to do so. But then you put your MP3 copy on the Internet, using a file-sharing network, so that millions of other people can download it.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Even if you don’t illegally offer recordings to others, you join a file-sharing network and download unauthorized copies of all the copyrighted music you want for free from the computers of other network members.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In order to gain access to copyrighted music on the computers of other network members, you pay a fee to join a file-sharing network that isn’t authorized to distribute or make copies of copyrighted music. Then you download unauthorized copies of all the music you want.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You transfer copyrighted music using an instant messenging service.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You have a computer with a CD burner, which you use to burn copies of music you have downloaded onto writable CDs for all of your friends.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Do The Crime, Do The Tim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riminal penalties for first-time offenders can be as high as five years in prison and $250,000 in fines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ivil penalties can run into many thousands of dollars in damages and legal fees. The minimum penalty is $750 per song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riminal penalties can run up to 5 years in prison and/or $250,000 in fines, even if you didn’t do it for monetary or financial or commercial gain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f you did expect something in return, even if it just involves swapping your files for someone else’s, as in MP3 trading, you can be sentenced to as much as 5 years in prison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gardless of whether you expected to profit, you’re still liable in civil court for damages and lost profits of the copyright holder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r the copyright holders can sue you for up to $150,000 in statutory damages for each of their copyrighted works that you illegally copy or distribute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law,.(n.d). Retrieved June 27, 2009 from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www.musicunited.org/2_thelaw.html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7:47:47Z</dcterms:created>
  <dc:creator>Christy Thornsberry</dc:creator>
  <dc:description/>
  <dc:language>en-US</dc:language>
  <cp:lastModifiedBy>Christy Thornsberry</cp:lastModifiedBy>
  <dcterms:modified xsi:type="dcterms:W3CDTF">2009-06-27T18:29:19Z</dcterms:modified>
  <cp:revision>5</cp:revision>
  <dc:subject/>
  <dc:title>21st CENTURY PIRATES</dc:title>
</cp:coreProperties>
</file>